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A99-C6E8-40C0-8663-8992337E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F4C-76BB-4F96-A6D7-6A2AC7FF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141-5CEF-4B5E-8F4A-5AF852CA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176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0460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7928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176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0460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D5D-2199-4CA6-9DBF-772B6358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47E9-19AC-467C-B16B-D47DF2DB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D0D0-8CE9-4795-A4DE-F5C14274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A48D-7AF0-4527-A8ED-092C3D65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F7C4-03AA-4839-8EB0-EF128D87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93E4-07DF-49A0-800B-163850A6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360" y="47592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5073-C29B-40FF-8E3A-1108DD71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03D9-7B02-402E-AA35-D88F45CC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8F2-E151-4C41-81AD-F3713358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F494-C8AB-438F-8656-7AD3AB5E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CFA0-5CB5-420B-861C-AF843944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5B18-4DAF-4D83-9976-03090594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E54F-EB63-45EC-9BF4-B680D8DC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9176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0460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7928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09176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0460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6D17-5A04-4E8E-AFE1-BBAAA202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ED2-D4EA-4C34-9417-0214551D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0067-D3BC-4B8B-B6ED-15F3547B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AA7-AEE7-4939-9B1C-DE5F57E8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360" y="47592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E30-76DB-4100-A389-B46077F1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AEA-6BEC-4537-879D-DBEB8790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EAF-A5A8-435F-9AB0-E3274E4A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8F3-8CC2-4E47-9218-4D6C6D3C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649C-1822-4A74-BBB3-20D95E63BF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8E31-05C5-412C-9B29-DD7F7BF09C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1:32:36Z</dcterms:created>
  <dc:creator>Satoru Ueda</dc:creator>
  <dc:description/>
  <dc:language>en-US</dc:language>
  <cp:lastModifiedBy>Satoru Ueda</cp:lastModifiedBy>
  <dcterms:modified xsi:type="dcterms:W3CDTF">2008-02-14T01:33:04Z</dcterms:modified>
  <cp:revision>1</cp:revision>
  <dc:subject/>
  <dc:title>スライド 1</dc:title>
</cp:coreProperties>
</file>